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258-77B3-41DD-87FF-F50959B3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D8B-670F-4F27-9435-A6B0B50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FC0-F1F6-41EA-A215-1A4C9823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B3F-2C9E-4594-9706-4EFAA8D8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DBE-3BF9-48F6-BAB4-49A5E7CD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6B2-DE21-4452-B4C5-E0A0177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8A1-9029-4082-B2A5-8BB06933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F41-D468-4B03-866E-569B899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60B-CA96-41DD-A689-A24F01D3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2FE-44FB-4B36-A793-59A512B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1FE-1ECE-4B31-B830-33C98BC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796-8289-49A4-B5F2-A799D22A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319-A6C6-4933-8268-C78EA852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us.unitn.it/sa/doc/nazionale/norme/dlvo29_93.html" TargetMode="External"/><Relationship Id="rId2" Type="http://schemas.openxmlformats.org/officeDocument/2006/relationships/hyperlink" Target="http://www.parlamento.it/parlam/leggi/deleghe/01165dl.htm" TargetMode="External"/><Relationship Id="rId3" Type="http://schemas.openxmlformats.org/officeDocument/2006/relationships/hyperlink" Target="http://www.istruzione.it/argomenti/autonomia/documenti/regolamento.htm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protocollo.gov.it/documenti/Legge%20241_1990.pdf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scuola.it/archivio/norme/decreti/dpraut2.html" TargetMode="External"/><Relationship Id="rId2" Type="http://schemas.openxmlformats.org/officeDocument/2006/relationships/hyperlink" Target="http://www.edscuola.it/archivio/norme/decreti/dpraut2.html" TargetMode="External"/><Relationship Id="rId3" Type="http://schemas.openxmlformats.org/officeDocument/2006/relationships/hyperlink" Target="http://www.edscuola.it/archivio/norme/decreti/dpraut2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7772400" cy="13816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e in materia di rapporto di lavoro nel pubblico impieg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D. l.vo n. 29/ 1993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–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D.L.vo n. 165/200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enze del giudice amminist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505320"/>
            <a:ext cx="777240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t. 14, c. 7, </a:t>
            </a:r>
            <a:r>
              <a:rPr b="0" lang="it-IT" sz="24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D.P.R. 8.03.1999, n. 275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Definitività degli atti”  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utotutel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724280"/>
            <a:ext cx="7772400" cy="1015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udice Amm.vo quale giudice degli interessi legitt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udice Ordinario quale giudice dei diritti sogg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553080" y="228600"/>
          <a:ext cx="1371600" cy="11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228600"/>
                    <a:ext cx="13716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981080"/>
            <a:ext cx="7467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NTRODEDUZ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LL’AMMINISTRAZIONE RES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5029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nza di moti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486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stanza gen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2209680"/>
            <a:ext cx="74674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ZA DI RIGETTO DEL T.A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762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estromissione controinteress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800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ammissibilità del ri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562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pese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1295280"/>
            <a:ext cx="746784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ICORSO IN APPELLO AL CONSIGLIO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TATO AVVERSO LA SENTENZA DI  1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A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04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omanda non gen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56386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cata richiesta di regolarizzazione da parte della Amminis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4572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ferma censure avanzate al giudice di 1° 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752480"/>
            <a:ext cx="7467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ZA DI RIGETTO DEL CONSIG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 ST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04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nda estremamente generica, formulata in modo     conf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ferma motivazioni del giudice di 1° 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7070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pese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IO di CASO  n.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3200040"/>
            <a:ext cx="693432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orso d’urgenza ex art. 700 c.p.c. al giudice del lavoro avverso provvedimento del dirigente scolastico di assegnazione di docente ad altra classe, di altro 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152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corso d’urgenza ex art. 700 c.p.c. al giudice del lavoro avverso provvedimento del dirigente scolastico di assegnazione di docente ad altra classe, di altro 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600200"/>
            <a:ext cx="74674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OTIVI DEL RI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276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vedimento di assegnazione arbitrario, generico, costituente grave atto d’abuso del dirigente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191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cato rispetto della continuità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800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rasferimento d’ufficio illegit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334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canza di contestazione d’addeb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867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rave disagio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152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corso d’urgenza ex art. 700 c.p.c. al giudice del lavoro avverso provvedimento del dirigente scolastico di assegnazione di docente ad altra classe, di altro 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95280"/>
            <a:ext cx="7467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MORIA DIFENSIV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MMINISTRAZIONE  RES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505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vedimento d’assegnazione motiva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rogative dirigente scolastico in ma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oscenza della docente da tempo stato conflittu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tto dovuto del dirigente scolas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roga principio “continuità didattica” per casi partic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6172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ncata dimostrazione di un pregiudizio grave e irrepar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corso d’urgenza ex art. 700 c.p.c. al giudice del lavoro avverso provvedimento del dirigente scolastico di assegnazione di docente ad altra classe, di altro 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295280"/>
            <a:ext cx="76960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RDINANZA DI RIGETTO DEL GIUD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L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276720"/>
            <a:ext cx="784872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insussistenza elementi legittimanti il ricorso alla tutela d’urgenz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(fumus boni iuris  – periculum in mor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erogative dirigente scolastico in mat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41972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rt. 2103 cod. civ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7242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ovvedimento motivato del dirigente scolast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105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ncata violazione principio “continuità didattic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486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oscenza, pur se informale, negli ultimi mesi stato conflittual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867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sussistenza di un pregiudizio imminente e irrepar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6137280"/>
            <a:ext cx="420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2485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pese compens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52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corso d’urgenza ex art. 700 c.p.c. al giudice del lavoro avverso provvedimento del dirigente scolastico di assegnazione di docente ad altra classe, di altro 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828800"/>
            <a:ext cx="7696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CLAMO AL TRIBUNALE DEL LAVO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 COMPOSIZIONE COLLEGIALE, EX A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669 – TERDECIES - C.P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6483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ferma deduzioni avanzate al giudice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me 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41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grave stato di disagio psico-f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52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corso d’urgenza ex art. 700 c.p.c. al giudice del lavoro avverso provvedimento del dirigente scolastico di assegnazione di docente ad altra classe, di altro 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828800"/>
            <a:ext cx="76960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RDINANZA DI RIGETTO DEL REC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MESSA DAL TRIBUNALE DEL LAVO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5720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ferma ordinanza reclam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1055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provvedimento organizzativo e non disciplin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6386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pese compens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248520" y="4572000"/>
          <a:ext cx="20080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572000"/>
                    <a:ext cx="20080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914400" y="21337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ITTO D’ACCESS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mite esame ed estrazione copia documenti amministrativ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 modi e con i limiti indicati dalla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legge 7 agosto 1990, n. 24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9528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19112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ò esercitare il diritto d’accesso chiunque abbia un interesse personale e concreto per la tutela di situazioni giuridicamente rileva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alità di esercizio e casi di esclusione del diritto di accesso ai documenti amministrativ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DPR 27 giugno 1992, n. 35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590920"/>
            <a:ext cx="7467840" cy="147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.b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t. 5, c. 5,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DPR 352/9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va comunque l’applicazione delle norme penali, è vietato asportare i documenti dal luogo presso cui sono dati in visione, tracciare segni su di essi o comunque alterarli in qualsiasi modo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876920"/>
            <a:ext cx="3200400" cy="147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.b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t. 8, c. 5,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DPR 352/9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ciplina dei casi di esclusio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9144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419720"/>
            <a:ext cx="4114800" cy="147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.b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t. 2, DM 60/9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tegorie di documenti inaccessibili per motivi di riservatezza di terzi, persone, gruppi ed impre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4724280"/>
            <a:ext cx="2667240" cy="862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.b.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t. 3, DM 60/9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fferiment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M 10 gennaio 1996, n. 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olamento recante norme per l’esclusione dell’esercizio del diritto di accesso ai documenti amministrativi ai sensi dell’art. 24, c. 4, L. 7 agosto 1990, n.241, e dell’art. 8 del DPR 27 giugno 1992, n. 3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SSO AI DOCUMENTI AMMINISTRATIV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gge 241/90, art. 25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71500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ibizione forzata dei documenti a seguito accoglimento ricorso (c. 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-16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uale regolarizzazione istanza (art. 4 - c. 6 - D.P.R. 352/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257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ctio ad exhibend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096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alità esercizio diritto d’accesso (c.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317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vazione richiesta (c.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9718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motivazione rifiuto, differimento, limitazione accesso (c.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3276720"/>
            <a:ext cx="70102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fiuto istanza d’acceso per inutile decorso gg. 30 (c. 4 -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stituito dall’art. 15 Lex 340/2000- Difensore civ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962520"/>
            <a:ext cx="80773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orso avverso determinazioni amministrative in materia d’accesso (c. 5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 al T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 al Consiglio di Stato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 appell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 rappresentanza in giudizio (art. 4 - c. 3 - Lex n.205/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IO di CASO  n.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3200400"/>
            <a:ext cx="5867280" cy="1905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990720"/>
            <a:ext cx="7924680" cy="57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MANDA DI UN DIPENDENTE INTESA 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TTENERE COPIA DEI SEGUENTI ATTI, 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NSI DELLA L. n. 241/199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 normativa specifica di settore applicata nel caso di spe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  copia delle eventuali circolari esistenti in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copia dei criteri preventivamente stabiliti e utilizzati ai fini della formulazione della graduatoria per l’assegnazione delle sedi scolastiche al personale neo-assunto a t.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 copia di altri eventuali criteri presi in e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52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2286000"/>
            <a:ext cx="7162920" cy="37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2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INVITO, PER LE VIE BREVI,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AMMINISTRAZIONE  A RIFORMU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aramond"/>
              </a:rPr>
              <a:t>L’ISTANZA D’A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1981080"/>
            <a:ext cx="731520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^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CTIO AD EXHIBENDUM AL GIUD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MM.VO EX ART. 25, c. 5, L. n. 241/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corso al giudice amministrativo avverso diniego d’accesso a documenti amministrativi per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silentium”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a P.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876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giustificato silenzio dell’Amministrazione, protrattosi per oltre 30 gior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5867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attispecie non rientrante nei casi di esclusione di cui all’art. 8 del D.P.R. n. 352/19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4:40:03Z</dcterms:created>
  <dc:creator>AZ</dc:creator>
  <dc:description/>
  <dc:language>en-US</dc:language>
  <cp:lastModifiedBy>bullo</cp:lastModifiedBy>
  <cp:lastPrinted>2004-03-22T08:42:49Z</cp:lastPrinted>
  <dcterms:modified xsi:type="dcterms:W3CDTF">2004-05-10T13:52:12Z</dcterms:modified>
  <cp:revision>68</cp:revision>
  <dc:subject/>
  <dc:title>RICORSO AL GIUDICE AMMINISTRATIVO AVVERSO DINIEGO DI ACCESSO AD ATTI AMMINISTRATIVI (Legge 241/90, art. 25 )</dc:title>
</cp:coreProperties>
</file>